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3014-4CA2-4A80-BB7A-2DE99B81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30B6-A643-4D60-9D61-7DDDDABA0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tages to practitio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e-sized 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do 5 days of study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masters leve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number of credits could potentially be used towards a masters 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be viewed as directly relevant to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tages to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C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masters leve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relevant to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tages to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a ‘taster’ for masters level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tudent already has a masters level qualification – might not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ay struggle with masters level writing – therefore a support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student fails to at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take funding away from initial ANP training or other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0F7-BEAF-443B-B3E5-7FFDE886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970-5749-43F6-8FED-168681B8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855-455B-4CE8-9878-0F81EF1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AC3-8AB8-4EA4-8FEE-7BA974F0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6D0E-4971-4DF1-B669-CCBEAA31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529A-E430-4362-B5E9-D66D8FB9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D7D9-60CF-4659-9744-60B38112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4F05-FB17-4584-815C-1A50D38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50D7-3B8C-4BAC-98A7-869C5A6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671F-13CA-4AA2-BA68-A42338C2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1AF5-079A-4543-ABF6-42B2E3C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D8E-8EF5-4B7B-81B2-10AEA11E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7E47-72BE-4BB3-B6C2-910FEE9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56F-521D-4264-A971-862C9FE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F716-80A0-4745-8EF4-072828F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7991-5D22-47BD-AEFB-96B75FE8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C392-AB89-4476-AC36-523FC0E0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42F-AAEC-4348-96DF-503719D8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5FE-47FC-451E-A8E8-F9161FD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91B-F4B9-43FF-9F43-E21C7AF3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1B3-AA4B-411D-9E37-44B458C6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229-BC60-41C3-9B7B-62BBB16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21E-260C-4EA4-A923-7D15913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154-9F62-4876-9292-37B5420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11FE-96C8-4C06-A1A9-77489C012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06AD-CA01-42B9-9374-F3849C355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09480" y="1371600"/>
          <a:ext cx="659772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65977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176560" y="200808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1040" y="228600"/>
            <a:ext cx="70160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dvanced Practice: Achieving Consens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A Toolkit Approach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5720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Mike Sab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Nursing Offi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CNO Direct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Scottish Gov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18900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5640" y="18900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1052640"/>
            <a:ext cx="720720" cy="36036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333360"/>
            <a:ext cx="5032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1052640"/>
            <a:ext cx="647640" cy="576000"/>
          </a:xfrm>
          <a:prstGeom prst="upArrow">
            <a:avLst>
              <a:gd name="adj1" fmla="val 50000"/>
              <a:gd name="adj2" fmla="val 28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67280" y="1989000"/>
            <a:ext cx="36036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19640" y="18900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18900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2205000"/>
            <a:ext cx="720720" cy="360360"/>
          </a:xfrm>
          <a:prstGeom prst="downArrow">
            <a:avLst>
              <a:gd name="adj1" fmla="val 37000"/>
              <a:gd name="adj2" fmla="val 4933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1052640"/>
            <a:ext cx="720720" cy="36036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333360"/>
            <a:ext cx="5032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1052640"/>
            <a:ext cx="647640" cy="576000"/>
          </a:xfrm>
          <a:prstGeom prst="upArrow">
            <a:avLst>
              <a:gd name="adj1" fmla="val 50000"/>
              <a:gd name="adj2" fmla="val 28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7280" y="1989000"/>
            <a:ext cx="36036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09480" y="1371600"/>
          <a:ext cx="659772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65977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176560" y="200808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040" y="228600"/>
            <a:ext cx="70160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dvanced Practice: Achieving Consensus</a:t>
            </a:r>
            <a:br>
              <a:rPr sz="2900"/>
            </a:b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A Toolkit Appro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45720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Mike Sab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Nursing Offi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CNO Direct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cottish Govt</a:t>
            </a: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sco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2205000"/>
            <a:ext cx="1513080" cy="2087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18900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35640" y="18900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48360" y="2997360"/>
            <a:ext cx="505080" cy="647640"/>
          </a:xfrm>
          <a:prstGeom prst="rightArrow">
            <a:avLst>
              <a:gd name="adj1" fmla="val 50000"/>
              <a:gd name="adj2" fmla="val 4150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6000" y="2205000"/>
            <a:ext cx="720720" cy="360360"/>
          </a:xfrm>
          <a:prstGeom prst="downArrow">
            <a:avLst>
              <a:gd name="adj1" fmla="val 37000"/>
              <a:gd name="adj2" fmla="val 4933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1052640"/>
            <a:ext cx="720720" cy="36036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33360"/>
            <a:ext cx="5032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4360" y="1052640"/>
            <a:ext cx="647640" cy="576000"/>
          </a:xfrm>
          <a:prstGeom prst="upArrow">
            <a:avLst>
              <a:gd name="adj1" fmla="val 50000"/>
              <a:gd name="adj2" fmla="val 28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1989000"/>
            <a:ext cx="36036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0" y="0"/>
          <a:ext cx="9144000" cy="63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su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1523880"/>
          <a:ext cx="807732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0773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su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57200" y="1523880"/>
          <a:ext cx="807732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0773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95280" y="2276640"/>
            <a:ext cx="2160720" cy="2952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su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7200" y="1523880"/>
          <a:ext cx="807732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0773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6804000" y="3716280"/>
            <a:ext cx="1584360" cy="1873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vanced Practi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Practice, rather than a role or ti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ble across practice contex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ble across professional contex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ist’ practice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ve or below ‘Advanced’ practice – it is on a different continu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431520" y="3049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1600" y="28195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164000" y="281952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31880" y="56386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ic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285640" y="2819520"/>
            <a:ext cx="4686480" cy="799920"/>
          </a:xfrm>
          <a:prstGeom prst="leftRightArrow">
            <a:avLst>
              <a:gd name="adj1" fmla="val 31250"/>
              <a:gd name="adj2" fmla="val 7358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2819520"/>
            <a:ext cx="990720" cy="914400"/>
          </a:xfrm>
          <a:prstGeom prst="leftArrow">
            <a:avLst>
              <a:gd name="adj1" fmla="val 34722"/>
              <a:gd name="adj2" fmla="val 5434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6019560" y="2819520"/>
            <a:ext cx="990360" cy="914400"/>
          </a:xfrm>
          <a:prstGeom prst="leftArrow">
            <a:avLst>
              <a:gd name="adj1" fmla="val 34722"/>
              <a:gd name="adj2" fmla="val 5432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4648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Key Themes &amp; Princip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cilitat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anced Clinic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nomous practi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Think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Levels of Decision Making &amp;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s-Bas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0200" y="3808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Profile &amp; KS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57200" y="1881360"/>
          <a:ext cx="80010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1360"/>
                    <a:ext cx="80010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10200" y="3808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Profile &amp; KS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881360"/>
          <a:ext cx="80010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1360"/>
                    <a:ext cx="80010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2268360" y="3429000"/>
            <a:ext cx="3600720" cy="1152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en, Paul, Jean, Ros, Kathy &amp; UK MNC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garet Smith &amp; Scottish MN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Cooper, Maggie Grundy, Gillian Knowles, Caitrian Guthrie, Douglas Allan, Anne Campbell, Mairi Kellagher, Colette Ferguson, Janet Corcoran, Susan Aitkenhead, Katie Barnes, Michelle Mello, Donna Mead and many mor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e Barton and AAN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ose who’ve published, researched and developed in this area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SF Outlines/ Job Descriptors/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national job profile and KSF outline templates for ‘Advanced Nurse Practitioner’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will support consistency across contexts with ‘Exemplars’ for different clinical/operational contexts – Community, H@N, SC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al Health, Childre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6840" y="380880"/>
            <a:ext cx="55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Analysis/Job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2120" y="1371600"/>
          <a:ext cx="739116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39116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Activity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prototype data collection and analysis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to support training needs analysis and good governance regarding matching client need to service deliv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Profiling/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ed A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42920" y="189000"/>
            <a:ext cx="57704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Analysi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ing ANP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ional, Regional &amp;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ctivity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ational data, PANDORA or lo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Indicato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loyd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cMaster University APN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? Minimum clinical activity data set (Concept &amp; Indic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556000" cy="10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ype of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ucture, proces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268280"/>
            <a:ext cx="255600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dimens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 to be 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157720"/>
            <a:ext cx="25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4508640"/>
            <a:ext cx="25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and R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645000"/>
            <a:ext cx="25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a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ec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852640"/>
            <a:ext cx="255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cl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205000"/>
            <a:ext cx="25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pecific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805360"/>
            <a:ext cx="25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497640"/>
            <a:ext cx="2556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1640" y="1052640"/>
            <a:ext cx="504720" cy="288720"/>
          </a:xfrm>
          <a:prstGeom prst="downArrow">
            <a:avLst>
              <a:gd name="adj1" fmla="val 42139"/>
              <a:gd name="adj2" fmla="val 445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2565360"/>
            <a:ext cx="504720" cy="289080"/>
          </a:xfrm>
          <a:prstGeom prst="downArrow">
            <a:avLst>
              <a:gd name="adj1" fmla="val 49685"/>
              <a:gd name="adj2" fmla="val 41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3429000"/>
            <a:ext cx="504720" cy="289080"/>
          </a:xfrm>
          <a:prstGeom prst="downArrow">
            <a:avLst>
              <a:gd name="adj1" fmla="val 53463"/>
              <a:gd name="adj2" fmla="val 445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71640" y="4221000"/>
            <a:ext cx="504720" cy="289080"/>
          </a:xfrm>
          <a:prstGeom prst="downArrow">
            <a:avLst>
              <a:gd name="adj1" fmla="val 45907"/>
              <a:gd name="adj2" fmla="val 379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4869000"/>
            <a:ext cx="504720" cy="288720"/>
          </a:xfrm>
          <a:prstGeom prst="downArrow">
            <a:avLst>
              <a:gd name="adj1" fmla="val 49685"/>
              <a:gd name="adj2" fmla="val 41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1640" y="5516640"/>
            <a:ext cx="504720" cy="288720"/>
          </a:xfrm>
          <a:prstGeom prst="downArrow">
            <a:avLst>
              <a:gd name="adj1" fmla="val 49685"/>
              <a:gd name="adj2" fmla="val 445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71640" y="6165720"/>
            <a:ext cx="504720" cy="289080"/>
          </a:xfrm>
          <a:prstGeom prst="downArrow">
            <a:avLst>
              <a:gd name="adj1" fmla="val 53463"/>
              <a:gd name="adj2" fmla="val 379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1916280"/>
            <a:ext cx="504720" cy="288720"/>
          </a:xfrm>
          <a:prstGeom prst="downArrow">
            <a:avLst>
              <a:gd name="adj1" fmla="val 34593"/>
              <a:gd name="adj2" fmla="val 41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1720" y="380880"/>
            <a:ext cx="53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Framework/D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838080" y="1371600"/>
          <a:ext cx="746784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46784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Educational Frame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development requires Development Needs Analysis and educationa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across the sector regarding Masters level and ‘core’ and context specific’ requirements for  Advanced Practice development programm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S Education for Scotland ‘Advanced Practice Succession Planning Pathway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acknowledges existing education provision and the value of work-based learning and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HEI - Electronic Profor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and links to agenda (25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ced Clinical Practice focused programmes - MSc,PgD, Pg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module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ership/Management focused cour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focused courses – MPhil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focused courses - PgCer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gnition of Pri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SF, AP Competencies and other relevant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Download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 Details and emai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outcomes from educational provision to AP competenci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Is map their programmes/courses against the Core &amp; Specific AP compet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actitioners access web page and select their role profile and the courses they have undertaken from a pre-populated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ir AP profile/competency list is populated with the matched educational outcomes from the courses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ssing’ competencies are identified so that practitioner/manager can arrange appropriate provision or seek other evidence of achie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On going competence review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sters level – CPD 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demonstrate Masters level thinking/pract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Is and Service could develop limited credit Masters level CPD un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available to individuals who have completed their initial ANP preparation, achieved competencies and have attained the minimum of a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to Practitio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to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to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56480" y="38088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force Planning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762120" y="1447920"/>
          <a:ext cx="73152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3152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00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Workload/ Workforce Analy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Need – Service Design – Skill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/Workload Planning tools for robust and standardised measures that support the efficient targeting of nursing resources towards areas of need - beyond merely ‘numbers of nurses’ towards determination of skill mi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National Workforce Proje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Six-steps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force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33160" y="4572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ory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09480" y="1523880"/>
          <a:ext cx="762012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62012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Regulatory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that the regulatory position of advanced level practice roles is fully linked to devolved and UK-wide governance principles, processes and respon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P regulation is co-dependent on many other aspects of the White Paper and linked to the NMC’s  work on revalidation and establishing a robust system for how practitioners demonstrate continued fitness for practic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mmon definition of ‘Advanced Practice’ across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11280" y="5013360"/>
            <a:ext cx="403200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Worker – 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1280" y="270828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Practitioner – 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3284640"/>
            <a:ext cx="4032000" cy="57600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ssistant Practitioner – 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386064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ior Support Worker – 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1280" y="443700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upport Worker - 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40464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Senior Staff – level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1280" y="98100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sultant Practitioner – level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1280" y="155736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Practitioner – level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2133720"/>
            <a:ext cx="4032000" cy="57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enior Practitioner – level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09760" y="1773360"/>
            <a:ext cx="1197360" cy="642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CN/CQ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00720" y="1413000"/>
            <a:ext cx="1295640" cy="916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67640" y="2349360"/>
            <a:ext cx="1297080" cy="1006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cc"/>
                </a:solidFill>
                <a:latin typeface="Arial"/>
              </a:rPr>
              <a:t>Ear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cc"/>
                </a:solidFill>
                <a:latin typeface="Arial"/>
              </a:rPr>
              <a:t>Clinical Career Fellowshi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83560" y="981000"/>
            <a:ext cx="2402640" cy="368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Consultant NMAH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67640" y="981000"/>
            <a:ext cx="1225440" cy="8240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ni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ar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643280" y="3213000"/>
            <a:ext cx="865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642920" y="2997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64292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643280" y="1700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643280" y="119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643280" y="249228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740720" y="184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16000" y="692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38800" y="5791320"/>
            <a:ext cx="67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ttish initiatives to support the Nursing Caree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2565360"/>
            <a:ext cx="2160720" cy="337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Practition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292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740720" y="692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08720" y="3068640"/>
            <a:ext cx="1800000" cy="337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ying Start N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93960" y="228600"/>
            <a:ext cx="3533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93960" y="228600"/>
            <a:ext cx="3533760" cy="6400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15280" y="522936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 it… and they will c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vanced Practi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 good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now we’ve go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velop/suppor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evidenc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42:05Z</dcterms:created>
  <dc:creator>sln330130</dc:creator>
  <dc:description/>
  <dc:language>en-US</dc:language>
  <cp:lastModifiedBy>z332057</cp:lastModifiedBy>
  <dcterms:modified xsi:type="dcterms:W3CDTF">2009-02-26T22:44:48Z</dcterms:modified>
  <cp:revision>28</cp:revision>
  <dc:subject/>
  <dc:title>Advanced Practice</dc:title>
</cp:coreProperties>
</file>